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9A0C01C5-20DC-47A9-986D-31BE253AF7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49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2880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68B8978D-E09A-4B50-91EF-DC069794E8B8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progur.com/2017/02/create-mandelbrot-fractal-javascript.html" TargetMode="External"/><Relationship Id="rId2" Type="http://schemas.openxmlformats.org/officeDocument/2006/relationships/hyperlink" Target="https://stackoverflow.com/questions/49785734/animating-a-fractal-tree-inside-a-javascript-canva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Rekursio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Funktsionaalne ja loogiline programmeerim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4360" y="2925720"/>
            <a:ext cx="2106720" cy="201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04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1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incredibly com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blueprints: g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enes are very small when compared to anim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contain copies of genes in huge am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ow is it possib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16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21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680" y="914400"/>
            <a:ext cx="8412120" cy="564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se cas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no recursion involve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cursive cases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guments of the recursive call must be “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mpl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” according to some measu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B! The “simplicity” measure may be arbitrarily comple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27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recu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it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3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bar which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2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37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2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762120"/>
            <a:ext cx="78487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4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73188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d have a look at </a:t>
            </a:r>
            <a:r>
              <a:rPr b="0" lang="en-GB" sz="15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math.hws.edu/graphicsbook/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out nice examples in javascrip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"/>
              </a:rPr>
              <a:t>https://progur.com/2016/10/procedural-generation-create-fractal-trees-javascript.htm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s://progur.com/2017/02/create-mandelbrot-fractal-javascript.htm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https://stackoverflow.com/questions/49785734/animating-a-fractal-tree-inside-a-javascript-canv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47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r>
              <a:rPr b="0" lang="ar-SA" sz="16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r>
              <a:rPr b="0" lang="ar-SA" sz="16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5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ivsed pild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56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54520" y="1500120"/>
            <a:ext cx="39132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i funktsioone ja funktsioon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resultaadiks võib samu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la funktsio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amik kaasaegse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– Javascript, Python, Java, ... --  on funktsionaalse programmeerimise meetoditest mõjustatu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isaldavad funktsionaalseid o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57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218280" y="2378160"/>
            <a:ext cx="243828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990720"/>
            <a:ext cx="7848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0) =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) = x*fakt(x-1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6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6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Bitstream Vera Sans"/>
              </a:rPr>
              <a:t>Puhtad ja kombineeritud funktsionaalsed kee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kombineeritu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funktsionaalses keeles -- Haskell, Hope, Miranda, FP -- ei ole programmeerijal peale funktsioonide defineerimise ja sisseehitatud baasfunktsioonide (aritmeetika, loendid jms) mingeid lisavahendeid -- kõik kõrvalefektid on keelatud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bineeritud funktsionaalsed keeled - ML, Lisp, Scheme -  kombineerivad puhaste funktsionaalsete keelte mehhanisme imperatiivsete mehhanismid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36640" y="364680"/>
            <a:ext cx="7765920" cy="306360"/>
            <a:chOff x="836640" y="364680"/>
            <a:chExt cx="7765920" cy="306360"/>
          </a:xfrm>
        </p:grpSpPr>
        <p:sp>
          <p:nvSpPr>
            <p:cNvPr id="173" name=""/>
            <p:cNvSpPr/>
            <p:nvPr/>
          </p:nvSpPr>
          <p:spPr>
            <a:xfrm>
              <a:off x="836640" y="666360"/>
              <a:ext cx="77626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602560" y="36468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990720"/>
            <a:ext cx="78487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7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8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8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f(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9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 ja muu puhtas lambda-arvut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leiutatud kodeerim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k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CC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 can be thought of as a function taking two natural numbers as arguments and returning a natural numb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LT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PLU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9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binatoorne loog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l minimaalsem, kui lambda-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iven S and K, I itself is unnecessary, since it can be built from the other tw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 = S K 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S K K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S K 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lambda-termi saab lihtsalt teisendada kombinaatorit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0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62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79440" y="3614760"/>
            <a:ext cx="4297320" cy="301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kasutusel -- loogilise programmeerimise keel. Prolog-ile lisaks on välja töötatud mitmeid uuemaid loogilise programmeerimise keeli ja süstee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0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1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1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990720"/>
            <a:ext cx="784872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2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2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3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990720"/>
            <a:ext cx="7848720" cy="61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3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4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: bad kind does not term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d kind (infinite loop which never terminate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car is a c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def fact(x)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return fact(x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6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2577960"/>
            <a:ext cx="3362400" cy="208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: good cases term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od kind – loop is (hopefully) terminat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"ancestor" is either a parent or an ancestor of a 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ef fact(x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=0: retur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: return x*fact(x-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74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def fact(x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f x&lt;=0: return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else: return x*fact(x-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79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2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84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9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98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1-11T19:45:22Z</dcterms:modified>
  <cp:revision>12</cp:revision>
  <dc:subject/>
  <dc:title>PowerPoint Presentation</dc:title>
</cp:coreProperties>
</file>